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3076-9367-4C33-A9D3-13AE30F3E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CDA2-75B4-4686-BDD2-CE35BEF24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D4F3-1E9A-4260-8679-3B27A4752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2825-BEB0-4829-BEF7-D48802421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C4B6-B92D-4B0C-B3A2-ECE6777E6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5B2B-EEEB-4158-87DE-F9055EEBB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905B-3B8B-421F-B3A2-5B0B621E5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33CC-95CC-419A-AC61-85229BE84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AC86-2D83-4C4C-AC07-19ADEE98C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E0B3-4906-4D74-9165-A5F22C10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B0E4-A975-4695-8E6B-20AAE38BC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D9FD-3CA0-44F5-A317-D0EA02C23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F6675-2F78-4118-BC58-CB4C550413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auhaus 93"/>
              </a:rPr>
              <a:t>Ancient Greec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ocabulary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ody McDerm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Greek city-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Content Placeholder 4" descr="polis.jpg"/>
          <p:cNvPicPr/>
          <p:nvPr/>
        </p:nvPicPr>
        <p:blipFill>
          <a:blip r:embed="rId1"/>
          <a:stretch/>
        </p:blipFill>
        <p:spPr>
          <a:xfrm>
            <a:off x="1143000" y="2057400"/>
            <a:ext cx="598320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iloso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tudy of wisdom and the right way to l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Content Placeholder 4" descr="plato.jpg"/>
          <p:cNvPicPr/>
          <p:nvPr/>
        </p:nvPicPr>
        <p:blipFill>
          <a:blip r:embed="rId1"/>
          <a:stretch/>
        </p:blipFill>
        <p:spPr>
          <a:xfrm>
            <a:off x="2971800" y="1981080"/>
            <a:ext cx="3381480" cy="41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ninsu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rea of land nearly surrounded by wa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Content Placeholder 4" descr="peninsula.jpg"/>
          <p:cNvPicPr/>
          <p:nvPr/>
        </p:nvPicPr>
        <p:blipFill>
          <a:blip r:embed="rId1"/>
          <a:stretch/>
        </p:blipFill>
        <p:spPr>
          <a:xfrm>
            <a:off x="1486080" y="2563920"/>
            <a:ext cx="4305240" cy="39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loponnesian W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war between Sparta and Ath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Content Placeholder 4" descr="war.jpg"/>
          <p:cNvPicPr/>
          <p:nvPr/>
        </p:nvPicPr>
        <p:blipFill>
          <a:blip r:embed="rId1"/>
          <a:stretch/>
        </p:blipFill>
        <p:spPr>
          <a:xfrm>
            <a:off x="3276720" y="2362320"/>
            <a:ext cx="244296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lig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kind of government that is run by a small group of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Content Placeholder 4" descr="oligarchy.jpg"/>
          <p:cNvPicPr/>
          <p:nvPr/>
        </p:nvPicPr>
        <p:blipFill>
          <a:blip r:embed="rId1"/>
          <a:stretch/>
        </p:blipFill>
        <p:spPr>
          <a:xfrm>
            <a:off x="1981080" y="2505240"/>
            <a:ext cx="3810240" cy="36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rb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heltered place along the coast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Content Placeholder 4" descr="harbor.jpg"/>
          <p:cNvPicPr/>
          <p:nvPr/>
        </p:nvPicPr>
        <p:blipFill>
          <a:blip r:embed="rId1"/>
          <a:stretch/>
        </p:blipFill>
        <p:spPr>
          <a:xfrm>
            <a:off x="1881360" y="2247840"/>
            <a:ext cx="474804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hill which Greeks built their city-states ar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Content Placeholder 4" descr="acro..jpg"/>
          <p:cNvPicPr/>
          <p:nvPr/>
        </p:nvPicPr>
        <p:blipFill>
          <a:blip r:embed="rId1"/>
          <a:stretch/>
        </p:blipFill>
        <p:spPr>
          <a:xfrm>
            <a:off x="1523880" y="2460600"/>
            <a:ext cx="6172200" cy="39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lace where Greeks meet and conduct busin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Content Placeholder 4" descr="agora.jpg"/>
          <p:cNvPicPr/>
          <p:nvPr/>
        </p:nvPicPr>
        <p:blipFill>
          <a:blip r:embed="rId1"/>
          <a:stretch/>
        </p:blipFill>
        <p:spPr>
          <a:xfrm>
            <a:off x="511200" y="2743200"/>
            <a:ext cx="767232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emb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0" y="12193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wmaking place where people voted on issues that helped their 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Content Placeholder 4" descr="assembly.jpg"/>
          <p:cNvPicPr/>
          <p:nvPr/>
        </p:nvPicPr>
        <p:blipFill>
          <a:blip r:embed="rId1"/>
          <a:stretch/>
        </p:blipFill>
        <p:spPr>
          <a:xfrm>
            <a:off x="2362320" y="3048120"/>
            <a:ext cx="439560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tiz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erson who has certain rights and responsibilities to his or her coun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Content Placeholder 4" descr="citizen.jpg"/>
          <p:cNvPicPr/>
          <p:nvPr/>
        </p:nvPicPr>
        <p:blipFill>
          <a:blip r:embed="rId1"/>
          <a:stretch/>
        </p:blipFill>
        <p:spPr>
          <a:xfrm>
            <a:off x="3276720" y="2438280"/>
            <a:ext cx="2733480" cy="36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o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group of people who lived apart from Greece but kept economic ties with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Content Placeholder 4" descr="colony.jpg"/>
          <p:cNvPicPr/>
          <p:nvPr/>
        </p:nvPicPr>
        <p:blipFill>
          <a:blip r:embed="rId1"/>
          <a:stretch/>
        </p:blipFill>
        <p:spPr>
          <a:xfrm>
            <a:off x="2743200" y="2554200"/>
            <a:ext cx="5029200" cy="33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mocra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form of government where people vote to make deci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Content Placeholder 4" descr="democracy pericles.jpg"/>
          <p:cNvPicPr/>
          <p:nvPr/>
        </p:nvPicPr>
        <p:blipFill>
          <a:blip r:embed="rId1"/>
          <a:stretch/>
        </p:blipFill>
        <p:spPr>
          <a:xfrm>
            <a:off x="1143000" y="1676520"/>
            <a:ext cx="609588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hear evidence and make decisions in a court of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Content Placeholder 4" descr="jury.jpg"/>
          <p:cNvPicPr/>
          <p:nvPr/>
        </p:nvPicPr>
        <p:blipFill>
          <a:blip r:embed="rId1"/>
          <a:stretch/>
        </p:blipFill>
        <p:spPr>
          <a:xfrm>
            <a:off x="1752480" y="2151000"/>
            <a:ext cx="541044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vernment headed by 1 ru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Content Placeholder 4" descr="monarchy.jpg"/>
          <p:cNvPicPr/>
          <p:nvPr/>
        </p:nvPicPr>
        <p:blipFill>
          <a:blip r:embed="rId1"/>
          <a:stretch/>
        </p:blipFill>
        <p:spPr>
          <a:xfrm>
            <a:off x="1981080" y="2286000"/>
            <a:ext cx="5146920" cy="38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BHISD</cp:lastModifiedBy>
  <dcterms:modified xsi:type="dcterms:W3CDTF">2012-03-02T16:40:03Z</dcterms:modified>
  <cp:revision>91</cp:revision>
  <dc:subject/>
  <dc:title>Ancient Greece</dc:title>
</cp:coreProperties>
</file>